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2C04-7C40-4FAF-AEE1-8502289B7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7989-EEBF-4241-948A-A22FA69E14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F66-A8BA-4BD8-8328-1CAF367EA8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1E47-5344-48A5-A377-C0EBEF8248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BFE-4EBF-4466-A186-EBE7507FB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3C95-4A1A-4397-89EB-8AB032344B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1E0-B9B5-4BB5-BC64-39A85659E0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EA4-468C-4990-B10A-463B7AEB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94D-F741-4040-9549-05A7CDC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0AA-7004-43BE-965A-751B5FD0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859-B714-42A8-B2D4-A2960F67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8B75-0A35-48D8-8544-153E04C2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48CE-9EC3-4732-8801-E75C7F7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BD5F-2F55-4F22-908B-4A65FB9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F5B-6900-42F3-923B-396C03E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023-1C09-4379-AFA8-0E80B9A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EAE-5B57-4AFE-8D87-BA678EF5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0ED9-24FE-4CE7-8B1B-CF647CF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678-741C-4DEF-8F16-5EC2964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29E-67A0-406B-A1BB-7937B31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B928-7144-4040-BF2B-579285BB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2A3-835F-4E39-8FE6-3A19E5DE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EC3B-689A-4372-87CC-E521AFF8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6DC-43AB-4025-B34A-609E4FFB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6877-A745-4031-A3E4-44322BB9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5578-0344-463E-9357-E599A532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4B16-348A-471D-BD51-007906D4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C4A6-9363-43DB-9DAD-6DFA9A4F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61D7-A687-4729-B937-E51777F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00A-4BD0-477F-81C6-C81F6CFC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A720-07F8-4892-9F13-F1EC34E0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C6AA-E650-49E1-A633-5D0C02C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5F84-777E-4718-AEF1-03E8725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FB95-90AB-440D-AEA7-8AA3F406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6019-C6E1-4369-976E-9ADA3B3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40D6-04CE-4252-AA93-4440D177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3B91-5B67-4009-A597-EC5EC41D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BA62-BC9E-43B2-8BB3-51CD2FDE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BDE6-FC1A-44E1-9C25-AE8F938B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F0E3-7519-4DC8-94B6-499C288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D90-CD48-48BD-8764-BA20652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3560-15C1-4A36-8EB6-D4A66252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D618-6D59-4B1C-9845-090B68C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7774-B053-4520-8B2F-7EBC1007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EDF1-04B3-4EFB-B2E5-ED57A74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B327-1777-494B-AD21-E9C8D5F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210D-EB62-4F97-8B43-D659100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4E06-8E53-4665-A9EC-263FE5D8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15B1-F386-47D4-AA5C-5C049273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522C-515E-4AE8-85DE-376473D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FE49-9890-481B-88EF-19C28859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0D2-D515-4179-91A8-C3EF5944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6ADB-36DB-414B-B8CF-B37D4C95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BB1F-2514-425A-982C-6F214BE9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560C-4408-4FD2-AD2F-7B1021ED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6D1C-E72D-470D-8A5A-4B5BDB5A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1982-6395-44AA-A04D-CCCF5A3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7018-51DB-4B1D-A974-34971CD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8258-4D9A-42A6-84A8-994A36E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452E-35FA-4C9E-9B65-467944A7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39BC-FB99-463B-8BF8-62CDF23A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5334-0872-4AAC-AB1B-5E847863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0C2-A415-4613-A11B-99BD8DF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2637-6371-4DD8-9CA4-B86FBC8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31A3-D623-4FD1-A658-EC86323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E27B-11B1-4348-9C74-719BE82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680C-02A8-4FDB-80E5-17DF2D78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58ED-2418-4069-88A4-34EB571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AE14-2AB0-474B-8528-E26067D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8DE0-EC41-4238-A4C4-B8C5A27B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5071-E8B3-47E5-A978-7283666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3D71-BC3B-4061-8058-5EBB876A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68DD-2F7B-4A24-A46D-7C7513D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A29-BF20-40DB-8232-9A74B0B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9604B-0291-4618-8DF5-0034734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C2C1-B2EF-42E2-8975-62C8E826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1F31-DD00-43A6-A0D3-6A13D56C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ECA1-CDCC-4A59-8B76-1DFF800E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55AC-3493-40E5-8EF1-57E755AC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BAC4-57B3-4344-B9B0-8F8332C0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89F50-1CFC-4785-AB9A-42EDEE1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43B2-8F1B-437A-91D6-C64D156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96F9-5AF9-4E63-81DC-E5447CC0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8D391-3497-42D8-808D-37CC0BA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7BE-35D1-41B0-98B1-4321BE2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802C-A30E-4D71-AD55-733D364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EB57-6202-4E9D-B896-C2E4581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E308-97C0-4472-8AC7-CA5E4958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A1F4-0360-4749-B7C1-D60867BB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D18F-4D3F-4044-A499-B23DA7E6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A20-8449-408B-AE88-14D7634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43C-8E77-4FCC-B07D-B5331D36EAB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927-58E2-4C04-AD32-D2C9F884CB9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BE2-677D-44BB-B5C5-64A66DA831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1186-85FC-4904-A8B6-566ABB2560E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1208-7A76-4D40-B47E-CD078C54681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760C-5311-4F8C-B0E0-1833F06A987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7D8-C092-4038-9DD2-D2AB1FFAA7F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547120" cy="14079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11" descr="art-mondrian.jpg"/>
          <p:cNvPicPr/>
          <p:nvPr/>
        </p:nvPicPr>
        <p:blipFill>
          <a:blip r:embed="rId2"/>
          <a:stretch/>
        </p:blipFill>
        <p:spPr>
          <a:xfrm>
            <a:off x="5867280" y="1752480"/>
            <a:ext cx="146700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10" descr="art-miro.jpg"/>
          <p:cNvPicPr/>
          <p:nvPr/>
        </p:nvPicPr>
        <p:blipFill>
          <a:blip r:embed="rId3"/>
          <a:stretch/>
        </p:blipFill>
        <p:spPr>
          <a:xfrm>
            <a:off x="1752480" y="1752480"/>
            <a:ext cx="130500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art-pollock.jpg"/>
          <p:cNvPicPr/>
          <p:nvPr/>
        </p:nvPicPr>
        <p:blipFill>
          <a:blip r:embed="rId4"/>
          <a:stretch/>
        </p:blipFill>
        <p:spPr>
          <a:xfrm>
            <a:off x="1714680" y="411480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vangogh.jpg"/>
          <p:cNvPicPr/>
          <p:nvPr/>
        </p:nvPicPr>
        <p:blipFill>
          <a:blip r:embed="rId5"/>
          <a:stretch/>
        </p:blipFill>
        <p:spPr>
          <a:xfrm>
            <a:off x="5791320" y="3962520"/>
            <a:ext cx="158112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Placeholder 6" descr="miro-sample.jpg"/>
          <p:cNvPicPr/>
          <p:nvPr/>
        </p:nvPicPr>
        <p:blipFill>
          <a:blip r:embed="rId2"/>
          <a:stretch/>
        </p:blipFill>
        <p:spPr>
          <a:xfrm>
            <a:off x="2286000" y="181080"/>
            <a:ext cx="4791240" cy="57099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Action Button: Home 7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Placeholder 7" descr="mondrian.jpg"/>
          <p:cNvPicPr/>
          <p:nvPr/>
        </p:nvPicPr>
        <p:blipFill>
          <a:blip r:embed="rId2"/>
          <a:srcRect l="0" t="130" r="0" b="13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0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by Mrs. Sedgwick at jacksonpollock.org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Placeholder 6" descr="pollock-sample.jpg"/>
          <p:cNvPicPr/>
          <p:nvPr/>
        </p:nvPicPr>
        <p:blipFill>
          <a:blip r:embed="rId2"/>
          <a:srcRect l="4883" t="0" r="4883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3" descr=""/>
          <p:cNvPicPr/>
          <p:nvPr/>
        </p:nvPicPr>
        <p:blipFill>
          <a:blip r:embed="rId1"/>
          <a:stretch/>
        </p:blipFill>
        <p:spPr>
          <a:xfrm>
            <a:off x="212760" y="115920"/>
            <a:ext cx="927000" cy="66564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KidPix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Placeholder 14" descr="vangogh-sample.jpg"/>
          <p:cNvPicPr/>
          <p:nvPr/>
        </p:nvPicPr>
        <p:blipFill>
          <a:blip r:embed="rId2"/>
          <a:srcRect l="3043" t="0" r="3043" b="0"/>
          <a:stretch/>
        </p:blipFill>
        <p:spPr>
          <a:xfrm>
            <a:off x="1447920" y="990720"/>
            <a:ext cx="6491160" cy="485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slide should include which of the art work that you did is your favorite and why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49:07Z</dcterms:created>
  <dc:creator>Sedgwick</dc:creator>
  <dc:description/>
  <dc:language>en-US</dc:language>
  <cp:lastModifiedBy>Sedgwick</cp:lastModifiedBy>
  <dcterms:modified xsi:type="dcterms:W3CDTF">2008-03-11T06:41:08Z</dcterms:modified>
  <cp:revision>6</cp:revision>
  <dc:subject/>
  <dc:title>My Gallery of Fine Computer Art</dc:title>
</cp:coreProperties>
</file>